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4EC-0A77-4372-A7D8-EC08BB01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962-EDC5-4D6F-B5E2-F5D3768E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34B-C72F-4B59-99AF-65D72586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ED9-F546-4ABA-A901-00CD5E61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E38D-9074-43D7-9BB3-6CB77DF5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2EAB-408F-4119-AD0B-8F0609A7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8F6E-928D-4648-A06D-990093B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5544-5CB9-4532-B1ED-EC03AF9E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127-F572-4398-B898-8BB9F5E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DD85-5193-47F6-B310-EA726F1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68E7-5FE7-4812-B70D-FABCF3D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E87-FFDD-4F45-B96A-9111781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6F10-F3BC-4A0C-B520-4D94B38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072F-DDD6-4CB8-97D3-A0B5932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23E-C30A-4A2D-AE4C-CF1E7ED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0442-32E5-4AAE-99D9-20158737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3A19-CE6D-47B2-A43D-AC603FF0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92C-AF22-4C14-B208-6E44E6CE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3FD-D1CE-4235-A57F-CBF8CC0F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213-A5E1-4AD5-9504-EC29C45E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89D-856E-4DFD-80AC-033C4DB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B8D-B2D3-4BFB-8130-4AE3AD3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DCD-2305-4B8B-B42A-63C65B32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364-E087-45FA-A83D-377BBDE4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8B6E-DEE7-435E-89C7-20ADF79FA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88C6-909B-4A23-8F89-45B5A94E4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lfson.ox.ac.uk/~outdoor/pictures/slides/Sea-view%20in%20Pembrokshire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land of th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lue Dolphin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9" descr="Island of the Blue Dolphins"/>
          <p:cNvPicPr/>
          <p:nvPr/>
        </p:nvPicPr>
        <p:blipFill>
          <a:blip r:embed="rId1"/>
          <a:stretch/>
        </p:blipFill>
        <p:spPr>
          <a:xfrm>
            <a:off x="6019920" y="380880"/>
            <a:ext cx="289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an out on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ead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island to meet Dad’s shi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on a clif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that sticks out into the s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066680" y="4419720"/>
            <a:ext cx="7239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ey caugh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ellfis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her net while she was fis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cklace made of sh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ea creature with a she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oped that the bear was long gone since we camped by his emp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a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dden tra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mal’s d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43200" y="4572000"/>
            <a:ext cx="3276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uffed animal had b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naw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by the playful pupp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w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ugg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666880" y="3733920"/>
            <a:ext cx="3505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aw brown fish that were almost hidden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l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al reef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aw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4343400"/>
            <a:ext cx="26672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atives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ne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nimals to make cl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ndons connecting muscle and b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ol from shee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3886200"/>
            <a:ext cx="8001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ere told to stay far back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av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t mountai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ep valle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water animal with a sh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Pj04222130000[1]"/>
          <p:cNvPicPr/>
          <p:nvPr/>
        </p:nvPicPr>
        <p:blipFill>
          <a:blip r:embed="rId1"/>
          <a:stretch/>
        </p:blipFill>
        <p:spPr>
          <a:xfrm>
            <a:off x="3429000" y="43434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MCj0435211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841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y of various large, tough, brown seaweed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stalked kelp Ecklonia radiata"/>
          <p:cNvPicPr/>
          <p:nvPr/>
        </p:nvPicPr>
        <p:blipFill>
          <a:blip r:embed="rId1"/>
          <a:stretch/>
        </p:blipFill>
        <p:spPr>
          <a:xfrm>
            <a:off x="152280" y="6094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narrow ridge of high land jutting out into the wat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191120" y="990720"/>
            <a:ext cx="4038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Sea-view%20in%20Pembroksh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n or resting place of a wild anima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MCAN04487_0000[1]"/>
          <p:cNvPicPr/>
          <p:nvPr/>
        </p:nvPicPr>
        <p:blipFill>
          <a:blip r:embed="rId1"/>
          <a:stretch/>
        </p:blipFill>
        <p:spPr>
          <a:xfrm>
            <a:off x="4648320" y="5029200"/>
            <a:ext cx="1827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long, deep, narrow, valle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Drainage Ravine"/>
          <p:cNvPicPr/>
          <p:nvPr/>
        </p:nvPicPr>
        <p:blipFill>
          <a:blip r:embed="rId1"/>
          <a:stretch/>
        </p:blipFill>
        <p:spPr>
          <a:xfrm>
            <a:off x="0" y="1219320"/>
            <a:ext cx="3759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itten at or worn awa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endo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500239-fx10"/>
          <p:cNvPicPr/>
          <p:nvPr/>
        </p:nvPicPr>
        <p:blipFill>
          <a:blip r:embed="rId1"/>
          <a:stretch/>
        </p:blipFill>
        <p:spPr>
          <a:xfrm>
            <a:off x="4419720" y="3809880"/>
            <a:ext cx="23810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23T20:26:52Z</dcterms:modified>
  <cp:revision>16</cp:revision>
  <dc:subject/>
  <dc:title>Frindle Vocabulary Words</dc:title>
</cp:coreProperties>
</file>